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DEE-D52C-4171-95E7-B774BBD3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378-D50E-4483-BC7C-D690A0E4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D5C-E5AD-49BA-8E88-50B6C0F1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4C5-12EF-49A4-B129-95347360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AD00-3CC0-4000-B6D5-0413D539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51C7-DE49-496D-815C-B812D42D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58EE-6B7F-4ECC-B273-D3DC11D1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5C72-775A-406F-A5CA-18C38652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434F-F127-423B-999F-CE8A1346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6D26-42EC-4CC0-9228-33027AA7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2412-03F1-4FAC-8543-10B487A1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8DA-5CD3-4345-98E9-77D23A9E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D8C6-7B63-49CC-8FAF-B47EB035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AC95-DF7C-4875-92DD-96040D76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BA21-1908-48A2-8AE7-611BDD54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91D8-5C8E-4AFF-BA09-F33CB5DD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BD3D-317F-40E3-AEEA-04C1E053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0459-C4A0-4BD4-9426-3ABC849B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17928-9492-47F6-94F2-D5331C7F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B155-D74C-40E2-B55D-2C97ECC8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8CA8-E944-4D6F-8D8B-33182BDE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7507-7347-4176-905B-AB4FF34A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96D-5044-4C8B-97CA-70EEABF3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1A72-7071-4AE3-AB2A-90BACD69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EE03-0A90-47F9-98B0-A01E06DC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72D1-82DC-43C9-AEBB-11F8F11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ACF8-4D84-4D43-801B-7BADC8AE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4F49-E9EF-403B-9490-D7786673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0F62-311D-4888-9772-AF6C07EF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7319-4836-4622-BF5A-4A759C2B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68E26-BB47-486E-824F-FC34DDC4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840EC-8A7C-40DE-A7C2-CDBAAFD8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7B15E-FA56-4F99-AF0E-A4A613ED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A80-7BA0-455C-BD09-512F11C3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AD33F-58CC-4A62-9A14-30BA9FD7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D8172-9CBD-4FC8-8042-75BFBB7C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CA9B3-E1EB-44F0-894D-720FBBC8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B73B1-02BB-4CBB-B098-66C9D49D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A1C25-7B7D-4D8F-98D0-77772DC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85D4-4029-4A44-8A58-030A644E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2D15-4253-48C9-BDAD-799EDB7C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BC75F-6C5C-4742-BAAF-08007BE9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9EE74-7DF1-477A-B307-CC0C5D37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1BD86-2726-4FFC-B0AE-AC9A5D88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C44-9721-488C-ADF3-B8310A99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BFC58-06BE-4ECE-AFFC-823F157C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87138-2D51-4589-9BD3-E2CCAEAE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E9170-7C5F-44E7-961A-21F39806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E29F5-C11B-48A3-9163-B10F1C0F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F8C10-D285-405B-9385-3CD1F105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01724-35A1-4450-9104-3819D94E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8D0EE-1E62-4361-ADE5-0A4A54C1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E5AD0-66D7-4D10-9EEE-36869EF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DFB77-2E57-4A65-AE77-A749F87E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C65C-224C-4948-B6C6-21489180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CE3-09F7-4C00-A173-8721B071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897A-91AC-4C63-BD84-4C2AC359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B71FD-AE5A-461A-891B-DB883197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7BF3E-0D6A-4465-91F4-83AC30C5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B7B62-6142-4E9D-AEAB-7D37FD51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21B6A-AB7A-42CE-94D9-A0CAC7D1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44ADB-AC84-4D0B-B6FE-53FA466E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39A8D-644D-4A05-B52A-4F1C339E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74DF9-E6A3-41A3-8CF8-CDAD785C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423DE-F9F4-4EE5-AA91-36729AA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C4FC6-B501-4387-88FE-FCE7AD12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0ED-0FCE-4364-849E-F636BE87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47348-F39C-41B5-9349-E9C4085A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D753-75CD-4AED-9A01-5937F059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AE8FE-996B-4646-96A7-9AB03E4F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CC2-0FC9-4E86-898E-AFCA8747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6BE-03B6-417E-972B-FE67493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91A5-456B-4BBD-8D8F-0E88ECFD02ED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28B0-D63C-465F-821B-61F4B54855FC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7FD0-23E2-4C0C-829B-D2F619704DE3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BFBF-E602-450C-9A20-E53CE10E4CAC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8E7A-0131-4DFC-AAF3-F1F24963567B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DBAD-94BA-4BF1-A9AF-0A67F23BF437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03360" y="2225520"/>
            <a:ext cx="6834240" cy="2443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09120" y="4114800"/>
            <a:ext cx="64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 Tal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 Stoo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y Should YOU read it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spensefu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crip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ought-provo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379960" cy="235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3733920" y="1960560"/>
            <a:ext cx="2958840" cy="2230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6397560" y="4191120"/>
            <a:ext cx="25941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ear the Story’s Sou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36760" cy="2438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895480" cy="4186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1828800" y="411480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1:15:18Z</dcterms:created>
  <dc:creator>Tiffany A. Brewer</dc:creator>
  <dc:description/>
  <dc:language>en-US</dc:language>
  <cp:lastModifiedBy>Tiffany A. Brewer</cp:lastModifiedBy>
  <dcterms:modified xsi:type="dcterms:W3CDTF">2008-11-18T01:51:47Z</dcterms:modified>
  <cp:revision>7</cp:revision>
  <dc:subject/>
  <dc:title>Three Skeleton Key</dc:title>
</cp:coreProperties>
</file>